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6951663" cy="5029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942D-9267-4648-8320-87553E8D73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C4417-B6D6-421A-A9B1-DA37952D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1CED-9AE9-47E5-B0F5-B7F02654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A048-5E23-41D5-B1E1-7A14A6A636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849F6-FFEA-4955-9203-ED639C3D67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3567D-D7F8-4BAC-B20A-A31A2972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35C49-C429-4A03-930C-F96DAAAE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1638D8-C893-4754-8B94-EDA87687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3C56E-6DE5-41A1-957E-C909EC05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B01163-7567-4A31-A3E0-53FFA9FB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09AD4-8B40-4573-822F-A9401B27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FCA3-8AF2-459B-A9A5-9F504207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8560D-573C-4992-B754-ACFA640B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EC81F-0AFE-439A-973F-52A2D245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9BDF2-BFCC-4B2D-839B-7FEC92F5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A1A0D-E993-4A7C-B1A6-CA2AC8C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61999-32C3-44A4-8162-E993C85F45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AB796-1A96-4FEF-84DF-40712D14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011EA2-2D88-4E0A-9D94-BAF89A16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D919D-D8F3-4630-8316-7B7BB441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17BB1-FC45-4210-B89E-6B165EEA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712B1-8714-44FA-815E-41A1B06A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A479-CE34-4F8B-9E09-FAD6DDD3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4C7572-95FB-4306-B8B9-E1C05929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1D70D2-1B63-4945-9EC2-ADC575E6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37C71-A939-4A47-9BB1-BC12237C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24A3B-7A14-4468-B62E-3948F9F4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9FA6EE-65CC-4E20-ADAA-68158A9E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86DB0-E259-42A7-9F39-2B6AE7F2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62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7760" y="117324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4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2462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4577760" y="2849400"/>
            <a:ext cx="20138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74C333-F5E5-4FD4-916D-2FCC5F08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B6F4-FD54-42E1-9720-0757B338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D7EE3-AB24-4A6B-A645-7B30A139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C59FC-08D7-480F-BAC0-5A9F32BE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BDC2-526B-4822-AE56-134C1C6B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52840" y="284940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194D-9E81-40FE-A47F-9C7EBCE7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776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52840" y="1173240"/>
            <a:ext cx="305208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7760" y="2849400"/>
            <a:ext cx="6254640" cy="1530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CF21B-0D10-4B2F-952D-F211AC49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GaDOE PPT Logo Background.tif"/>
          <p:cNvPicPr/>
          <p:nvPr/>
        </p:nvPicPr>
        <p:blipFill>
          <a:blip r:embed="rId2"/>
          <a:stretch/>
        </p:blipFill>
        <p:spPr>
          <a:xfrm>
            <a:off x="0" y="-200160"/>
            <a:ext cx="6950160" cy="522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B06A-F60C-46EF-A950-7551832496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6" name="Picture 9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"/>
          <p:cNvPicPr/>
          <p:nvPr/>
        </p:nvPicPr>
        <p:blipFill>
          <a:blip r:embed="rId2"/>
          <a:stretch/>
        </p:blipFill>
        <p:spPr>
          <a:xfrm>
            <a:off x="0" y="-128520"/>
            <a:ext cx="6950160" cy="522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" name="Picture 13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10B8-3451-459F-9AB0-820D9B504C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GaDOE PPT Logo Background.tif"/>
          <p:cNvPicPr/>
          <p:nvPr/>
        </p:nvPicPr>
        <p:blipFill>
          <a:blip r:embed="rId2"/>
          <a:stretch/>
        </p:blipFill>
        <p:spPr>
          <a:xfrm>
            <a:off x="0" y="-200160"/>
            <a:ext cx="6950160" cy="5229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1139760" y="4370400"/>
            <a:ext cx="252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b39d35"/>
                </a:solidFill>
                <a:latin typeface="Arial"/>
              </a:rPr>
              <a:t>Dr. John D. Barge, State School Superintendent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“</a:t>
            </a:r>
            <a:r>
              <a:rPr b="0" i="1" lang="en-US" sz="800" spc="-1" strike="noStrike">
                <a:solidFill>
                  <a:srgbClr val="b39d35"/>
                </a:solidFill>
                <a:latin typeface="Arial"/>
              </a:rPr>
              <a:t>Making Education Work for All Georgians”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39d35"/>
                </a:solidFill>
                <a:latin typeface="Arial"/>
              </a:rPr>
              <a:t>www.gadoe.org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8" name="Picture 9" descr="DOE-LOGO-single-layer-gold.gif"/>
          <p:cNvPicPr/>
          <p:nvPr/>
        </p:nvPicPr>
        <p:blipFill>
          <a:blip r:embed="rId3"/>
          <a:stretch/>
        </p:blipFill>
        <p:spPr>
          <a:xfrm>
            <a:off x="615960" y="4325760"/>
            <a:ext cx="550800" cy="5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47760" y="1173240"/>
            <a:ext cx="6254640" cy="32083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5480" indent="-212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3920" indent="-169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197000" indent="-16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39720" indent="-1695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5"/>
          </p:nvPr>
        </p:nvSpPr>
        <p:spPr>
          <a:xfrm>
            <a:off x="5270400" y="4660560"/>
            <a:ext cx="81144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/28/2011</a:t>
            </a:r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6"/>
          </p:nvPr>
        </p:nvSpPr>
        <p:spPr>
          <a:xfrm>
            <a:off x="1722240" y="4660560"/>
            <a:ext cx="327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EPTEMBER 201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7"/>
          </p:nvPr>
        </p:nvSpPr>
        <p:spPr>
          <a:xfrm>
            <a:off x="6138720" y="4660560"/>
            <a:ext cx="463680" cy="268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ADB0-6F89-423D-88E1-060A306B15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5400" y="0"/>
            <a:ext cx="6584760" cy="34941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br>
              <a:rPr sz="3300"/>
            </a:b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RESA/DOE</a:t>
            </a:r>
            <a:br>
              <a:rPr sz="2700"/>
            </a:br>
            <a:r>
              <a:rPr b="1" lang="en-US" sz="2700" spc="-1" strike="noStrike">
                <a:solidFill>
                  <a:srgbClr val="595959"/>
                </a:solidFill>
                <a:latin typeface="Calibri"/>
              </a:rPr>
              <a:t>SUMMER INSTITUTE</a:t>
            </a:r>
            <a:br>
              <a:rPr sz="2700"/>
            </a:br>
            <a:r>
              <a:rPr b="1" lang="en-US" sz="2700" spc="-1" strike="noStrike">
                <a:solidFill>
                  <a:srgbClr val="ffc000"/>
                </a:solidFill>
                <a:latin typeface="Calibri"/>
              </a:rPr>
              <a:t>COMMON CORE GEORGIA PERFORMANCE STANDARDS: STRATEGIES TO MEET THE INCREASED WRITING DEMANDS IN CCGPS</a:t>
            </a:r>
            <a:endParaRPr b="1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6400" y="3200400"/>
            <a:ext cx="5631120" cy="1285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rald Boyd, Susan Jac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Georgia Department of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English Language Ar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s this always a 4-page paper? Is it always even a paper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47760" y="1173240"/>
            <a:ext cx="6254640" cy="24480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group presen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multi-media respon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writer’s worksh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 peer review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just the amount of feedback you provid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Two: Fudge the Number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unit plans specify the low-end of the suggested requirements: 4 analy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one of these is a group or multimedia project, then there are 3 full essays to be considered per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f us, thankfully, do not really have 150 student cohorts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7760" y="11916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Three: Vary Your Rubrics</a:t>
            </a:r>
            <a:br>
              <a:rPr sz="33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focus on specific skills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13577" t="31563" r="50949" b="8490"/>
          <a:stretch/>
        </p:blipFill>
        <p:spPr>
          <a:xfrm>
            <a:off x="1763640" y="941400"/>
            <a:ext cx="3149640" cy="332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Rubrics: Continued…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rcRect l="13213" t="28091" r="50949" b="8197"/>
          <a:stretch/>
        </p:blipFill>
        <p:spPr>
          <a:xfrm>
            <a:off x="1635120" y="868320"/>
            <a:ext cx="3490920" cy="3879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3388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Four: Round Table Grad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 grading conven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groups of 3-4, take 3 minutes to scan the paper provided to you 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a spot-determination 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S/ORGANIZATION/STYLE/CONVEN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a score between 1 and 5 in each domain and an overall score between 1 and 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3388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Four: Round Table Grad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and discuss your determin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there a general consensus as to which papers were better? Therefore, would a round-table or even an individual spot grade be valid occasionall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paper 2, repeat 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rigor in the text-based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n-Class vs. Outside-of-Class Writing?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5160" y="1606320"/>
            <a:ext cx="2016000" cy="1995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9" descr="https://encrypted-tbn0.google.com/images?q=tbn:ANd9GcTTrGXyXCpUxMcgKTRamTsyYyygpPRjt-ouu7GlVuLsXNSgGQYzBA"/>
          <p:cNvPicPr/>
          <p:nvPr/>
        </p:nvPicPr>
        <p:blipFill>
          <a:blip r:embed="rId1"/>
          <a:stretch/>
        </p:blipFill>
        <p:spPr>
          <a:xfrm>
            <a:off x="3529080" y="2362320"/>
            <a:ext cx="2571840" cy="178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7760" y="156852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David Coleman, CCSS Author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on Analytical Writ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4760" y="340920"/>
            <a:ext cx="6254640" cy="3862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700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libri"/>
              </a:rPr>
              <a:t>How Can We Hel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erald Boy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san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gboyd@doe.k12.ga.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jacobs@doe.k12.ga.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4-617-71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im Jeffcoat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aniel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jeffcoat@doe.k12.ga.us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rock@doe.k12.ga.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4-463-193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0-617-92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OE ELA HOMEPAGE: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200" spc="-1" strike="noStrike" u="sng">
                <a:solidFill>
                  <a:srgbClr val="595959"/>
                </a:solidFill>
                <a:uFillTx/>
                <a:latin typeface="Calibri"/>
              </a:rPr>
              <a:t>http://public.doe.k12.ga.us/ci_services.aspx?PageReq=CIServEnglis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5270400" y="4660920"/>
            <a:ext cx="811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7497-3818-4EF2-B897-7EC2443155C3}" type="datetime">
              <a:rPr b="0" lang="en-US" sz="9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9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MULTITASKING</a:t>
            </a:r>
            <a:br>
              <a:rPr sz="33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re is a limit to what you can do!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6" descr="https://encrypted-tbn1.google.com/images?q=tbn:ANd9GcRzft4tQLSiP35YLcOjcXHFFdsg0qC7RnAsDu4w5zb01zP-9i7fMw"/>
          <p:cNvPicPr/>
          <p:nvPr/>
        </p:nvPicPr>
        <p:blipFill>
          <a:blip r:embed="rId1"/>
          <a:stretch/>
        </p:blipFill>
        <p:spPr>
          <a:xfrm>
            <a:off x="2376360" y="12351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Writing and Proposed Assessments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831600"/>
            <a:ext cx="438156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96000"/>
          </a:bodyPr>
          <a:p>
            <a:pPr marL="245160" indent="-245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posed PARCC Assessment System will be designed to measure knowledge, skills and understandings essential to achieving college and career readiness. In ELA/Literacy, these include the following areas as defined by the standar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5160" indent="-24516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Documents and Settings\Susan Jacobs\Local Settings\Temporary Internet Files\Content.IE5\IW4UR388\MC900412754[1].wmf"/>
          <p:cNvPicPr/>
          <p:nvPr/>
        </p:nvPicPr>
        <p:blipFill>
          <a:blip r:embed="rId1"/>
          <a:stretch/>
        </p:blipFill>
        <p:spPr>
          <a:xfrm>
            <a:off x="4417920" y="858960"/>
            <a:ext cx="2217960" cy="282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It is All About the Evidence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4720" y="960120"/>
            <a:ext cx="421488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94000"/>
          </a:bodyPr>
          <a:p>
            <a:pPr marL="2160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riting effectively when using and/or analyzing sources: This requires students to demonstrate the interrelated literacy activities of reading, gathering evidence about what is read, and analyzing and presenting that evidence in writ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6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" descr="C:\Documents and Settings\Susan Jacobs\Local Settings\Temporary Internet Files\Content.IE5\E5W1HYZX\MP900402892[1].jpg"/>
          <p:cNvPicPr/>
          <p:nvPr/>
        </p:nvPicPr>
        <p:blipFill>
          <a:blip r:embed="rId1"/>
          <a:stretch/>
        </p:blipFill>
        <p:spPr>
          <a:xfrm>
            <a:off x="5322960" y="2660760"/>
            <a:ext cx="134604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7760" y="202680"/>
            <a:ext cx="6254640" cy="730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What is PARCC?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artnership for Assessment of Readiness for College and Careers (PARCC) is a consortium of states working together to develop a common set of K-12 assessments in English and math anchored in what it takes to be ready for college and care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10680" t="25190" r="58733" b="63519"/>
          <a:stretch/>
        </p:blipFill>
        <p:spPr>
          <a:xfrm>
            <a:off x="2133720" y="1025640"/>
            <a:ext cx="2641320" cy="60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ample Suggested Writing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rcRect l="22083" t="30982" r="19453" b="12543"/>
          <a:stretch/>
        </p:blipFill>
        <p:spPr>
          <a:xfrm>
            <a:off x="277920" y="1044720"/>
            <a:ext cx="61783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Oval 4"/>
          <p:cNvSpPr/>
          <p:nvPr/>
        </p:nvSpPr>
        <p:spPr>
          <a:xfrm>
            <a:off x="3176640" y="1376280"/>
            <a:ext cx="730080" cy="28353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Straight Connector 6"/>
          <p:cNvSpPr/>
          <p:nvPr/>
        </p:nvSpPr>
        <p:spPr>
          <a:xfrm>
            <a:off x="4332240" y="1690560"/>
            <a:ext cx="692280" cy="7286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Straight Connector 7"/>
          <p:cNvSpPr/>
          <p:nvPr/>
        </p:nvSpPr>
        <p:spPr>
          <a:xfrm flipH="1">
            <a:off x="4405320" y="1717560"/>
            <a:ext cx="582480" cy="684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PARCC Recommended Writing Guidelines by Grade Level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https://encrypted-tbn1.google.com/images?q=tbn:ANd9GcQHNuFfRR-qE3P1weptcKaQoTPJF_kCAO9s_XO3oUV3vZTGhsMn"/>
          <p:cNvPicPr/>
          <p:nvPr/>
        </p:nvPicPr>
        <p:blipFill>
          <a:blip r:embed="rId1"/>
          <a:stretch/>
        </p:blipFill>
        <p:spPr>
          <a:xfrm>
            <a:off x="2558880" y="1528920"/>
            <a:ext cx="170532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Let’s Crunch the Numbers: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987720" y="1146240"/>
            <a:ext cx="2652840" cy="22255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04920" y="923760"/>
            <a:ext cx="35924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c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 Students x  6 Analysis essays = 900 essay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ages each = 360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minutes per page = 7200 minut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00 minutes = 120 hour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 IMPOSSIBL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Strategy One: Define “Analysis” </a:t>
            </a:r>
            <a:endParaRPr b="1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47760" y="1172880"/>
            <a:ext cx="6254640" cy="3189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me the author, title of the work, etc., and major claim or thesis of 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n explanation of how the author develops and supports the major claim (thesis state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 statement of the author's purpose, followed by an "in order to" phr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ve a description of the intended audience and/or the relationship the author establishes with the audien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5600" indent="-255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5:23:23Z</dcterms:created>
  <dc:creator>Missy Smith</dc:creator>
  <dc:description/>
  <dc:language>en-US</dc:language>
  <cp:lastModifiedBy>Susan Jacobs</cp:lastModifiedBy>
  <dcterms:modified xsi:type="dcterms:W3CDTF">2012-07-11T16:54:34Z</dcterms:modified>
  <cp:revision>368</cp:revision>
  <dc:subject/>
  <dc:title>PowerPoint Presentation</dc:title>
</cp:coreProperties>
</file>